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719-3FC8-4184-8712-FEC737CD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EDC4-4927-4E58-A8E1-3FE6A501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3D3-5BAB-4BC7-9F93-A60DB9E4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FB1-C70C-4BFE-B769-22CE1C1B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BAD-2D5F-4EA0-9325-E0625346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4CD-613F-47DA-83BF-FE4C0EDE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E8E-68F4-4FF9-A22B-44C8E125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976-473F-48CE-A203-881749D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6C8-AA97-496C-8605-BF0797D0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BB4-3C0D-4041-ADDA-9F9DCFF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0C8-CE8E-40F4-8378-2FA57CCB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3FD-ED21-43DF-923E-4AF66AD8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A63-1EB5-413F-8158-D9340901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D4C-585D-44F6-8E81-7DD72F8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E67D-F001-41B6-810A-2FA23D00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9_03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4 Malnutrition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4 Malnutrition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9_09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5 Sub-Saharan Africa has all of the following problems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rrupt and/or inefficient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evels of female 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levels of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 lack of mine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relatively uneducated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5 Sub-Saharan Africa has all of the following problems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rrupt and/or inefficient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evels of female 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levels of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A lack of mine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relatively uneducated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6 The Gender-Related Development Index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6 The Gender-Related Development Index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9_1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7 The self-sufficiency approach t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had the suppor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es on free trade with more develo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been the preferred approach over the la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quently suffers from in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ies on market forces with little gui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1 Of the following areas, the Human Development Index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7 The self-sufficiency approach t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had the suppor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es on free trade with more develo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been the preferred approach over the la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Frequently suffers from in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ies on market forces with little gui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8 According to Rostow’s development model, a country with a lot of heavy industry that uses modern technology is i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8 According to Rostow’s development model, a country with a lot of heavy industry that uses modern technology is i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9 All of the following statements about the World Trade Organization are tru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berals charge it is anti-dem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servatives charge it compromi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t seeks to lower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t encompasses around 70% of worl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t promotes a capitalist economic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9 All of the following statements about the World Trade Organization are tru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berals charge it is anti-dem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servatives charge it compromi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t seeks to lower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t encompasses around 70% of worl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t promotes a capitalist economic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10 Foreign debt as a percentage of income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10 Foreign debt as a percentage of income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9_24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1 Of the following areas, the Human Development Index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9_01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2 GDP per capita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2 GDP per capita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9_02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3 Regarding sector employment in MDCs and LDCs over the last 100 years, it is tru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primary sector has in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tertiary sector has de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primary sector has trended slightly l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tertiary sector has in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econdary sector has de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3 Regarding sector employment in MDCs and LDCs over the last 100 years, it is tru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primary sector has in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tertiary sector has de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he primary sector has trended sligh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tertiary sector has in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econdary sector has de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08:39Z</dcterms:modified>
  <cp:revision>84</cp:revision>
  <dc:subject/>
  <dc:title>CRS Chapter 4</dc:title>
</cp:coreProperties>
</file>